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6F59-8144-48FB-8807-0B6B0FF5BA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2C9F-49CC-470F-98F0-2B9D1416CB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C8CD-B483-4517-BE60-085F14546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82C6-BD41-4A8B-9B2B-509B6E083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BE41-6086-475D-B610-96B6A953D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D33C-B6AA-48CD-9994-DB36AB5BC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ADC13-828F-454A-A7A2-699767A6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051B6-84A6-4E0A-B100-0DB16C9E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B97C5-7802-4965-B460-A0E720F4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99F91-11B9-426C-B478-34A4A8D1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D2EBB-5FFA-4471-8F8B-BE7927A7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3ED57-3125-4E30-B1BD-AC13580E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341A7-9E53-4B6A-858B-16F1AD8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E200-ECC9-4E53-83DF-A7173D870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DE584-3D8B-4614-BD15-A9B8BBF9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F0BF6-6E22-453F-B7EE-3FA18638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9E9DA-0A85-481E-8C7A-AB6D332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82F68-0EAD-4974-ADEC-7048B867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D578A-5D83-49C6-BD22-C750F5D9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50D76-94BB-4B5D-9E71-59CBBCCC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2622A-BBF3-4596-B702-C7BABA71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1D62EE-AD92-40FF-9F8F-B4600D64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7048E-56B0-4A4E-AF13-3E20AC47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AFEC0-B187-4243-8C77-9A0DA050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7907-0186-41E1-A4D9-869ED6D70E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13224-89AB-4964-8648-2370F322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BB8C1-2106-4C39-855F-EF809E8F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81BDD9-BBBD-4B18-84B3-B1A8DFED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8A474-B0E2-47A5-B857-CC5ED04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8D4F56-7415-4E1B-9982-BECF57D6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7FB43-13F4-4409-872B-DFA18750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E7AB5-AB95-44CD-B565-F3F6DFD8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06446-93EC-470C-8375-18E8C7F713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53AF1-2AA3-4763-A976-E9B5E5F2D8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98D1A-12A9-476D-8DC0-582FFD39D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B7F7-18B9-4388-B565-D4D256F146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E3499-B159-42DE-9FE8-42570DD082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F11EE-F341-4754-9862-7D7EB37B09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D1FA7-97B0-4AA3-9A6A-E15FE875F6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55122-2A24-4C69-9202-EA4F0EB2A4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E3D04-2BD0-4389-B4FA-17C1A88881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97CC2-334C-402E-B95A-2C27FE199B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03D01-AC7B-4A0A-B39F-135E3DD9DC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CE8FA-6578-4439-89D0-F4EFB73BC7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B0456-A0C2-4CDD-8AEC-3F9EF32DA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2BEF-E411-4375-8624-F796B974F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B583-4F1B-401D-B048-BE602126E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186F-9C1B-4C8E-A55C-C8470090B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13D7-2B76-4BD6-BD52-C1BA6D00F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C575-9999-4497-B511-340F7AE2B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206C-C27C-4AEA-9065-994C5BE6237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7B75-A01F-45D7-9BB9-A4A3108916F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1F02-DB96-4034-91AF-956663186CC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2D12-9F4D-4651-9328-11766258B27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BC8-E992-4A1D-9DD2-FF967BF6876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E712-D76C-4DCB-83C5-3E330995299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to be applied for derogations (Article 5) and public inform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(Article 37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ntact Points: Definition of types of information (free of charge or charged) (Recital 4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A12D-DC83-44ED-8C59-9A1A48751E5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3D61-B088-4694-B073-D973596BAA4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5843-3038-4837-86A3-22BBD051717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4584-9C21-432C-AB44-D2280B2C3CA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BFE1-AD8E-4FA5-B663-A5EAEE1958C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6:48Z</dcterms:modified>
  <cp:revision>539</cp:revision>
  <dc:subject/>
  <dc:title>Aucun titre de diapositive</dc:title>
</cp:coreProperties>
</file>